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wmf" ContentType="image/x-wmf"/>
  <Override PartName="/ppt/media/image12.wmf" ContentType="image/x-wmf"/>
  <Override PartName="/ppt/media/image16.wmf" ContentType="image/x-wmf"/>
  <Override PartName="/ppt/media/image5.gif" ContentType="image/gif"/>
  <Override PartName="/ppt/media/image7.jpeg" ContentType="image/jpeg"/>
  <Override PartName="/ppt/media/image23.gif" ContentType="image/gif"/>
  <Override PartName="/ppt/media/image3.png" ContentType="image/png"/>
  <Override PartName="/ppt/media/image11.wmf" ContentType="image/x-wmf"/>
  <Override PartName="/ppt/media/image6.wmf" ContentType="image/x-wmf"/>
  <Override PartName="/ppt/media/image22.gif" ContentType="image/gif"/>
  <Override PartName="/ppt/media/image13.wmf" ContentType="image/x-wmf"/>
  <Override PartName="/ppt/media/image8.jpeg" ContentType="image/jpeg"/>
  <Override PartName="/ppt/media/image9.jpeg" ContentType="image/jpeg"/>
  <Override PartName="/ppt/media/image30.wmf" ContentType="image/x-wmf"/>
  <Override PartName="/ppt/media/image4.gif" ContentType="image/gif"/>
  <Override PartName="/ppt/media/image2.wmf" ContentType="image/x-wmf"/>
  <Override PartName="/ppt/media/image29.wmf" ContentType="image/x-wmf"/>
  <Override PartName="/ppt/media/image1.png" ContentType="image/png"/>
  <Override PartName="/ppt/media/image19.gif" ContentType="image/gif"/>
  <Override PartName="/ppt/media/image10.wmf" ContentType="image/x-wmf"/>
  <Override PartName="/ppt/media/image14.gif" ContentType="image/gif"/>
  <Override PartName="/ppt/media/image25.wmf" ContentType="image/x-wmf"/>
  <Override PartName="/ppt/media/image15.jpeg" ContentType="image/jpeg"/>
  <Override PartName="/ppt/media/image26.wmf" ContentType="image/x-wmf"/>
  <Override PartName="/ppt/media/image17.wmf" ContentType="image/x-wmf"/>
  <Override PartName="/ppt/media/image18.gif" ContentType="image/gif"/>
  <Override PartName="/ppt/media/image20.wmf" ContentType="image/x-wmf"/>
  <Override PartName="/ppt/media/image21.wmf" ContentType="image/x-wmf"/>
  <Override PartName="/ppt/media/image24.jpeg" ContentType="image/jpeg"/>
  <Override PartName="/ppt/media/image2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0E2E-4360-49F6-84E3-DB3E0E858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63E3-0D6E-4568-BF77-D6011AB35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20D8-2450-4465-B61F-82EB240E1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8A37-98BF-4257-86CA-DE86EA706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5BB80-E4A0-4946-82A1-9160A1961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BDA5F-1764-4AB5-8ACA-4421E7FF7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6F28F-CF89-4DFF-A10E-282497312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E708E-6162-4395-9C9B-D1F97628C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5E123-C672-46DC-8BF9-B7ED6EF14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1DC81-0D55-4784-A6BB-61DFD72BB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4B467-F2EF-4669-9238-0FC1C56FC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5A13-46C0-4264-8A74-21F3358F8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BD3A2-3F98-4238-9449-A7CE6F21B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E199C-DC71-42A9-8245-80430FF5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0B4EB-E68F-48A8-8D4D-53C9599D9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89A18-5D2F-4DE3-9BEC-56B3A993D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CAA20-4430-48E6-A39F-E58C6846E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1E10-5234-40F7-A0C0-EE27D0018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4B96-3662-497A-B0B0-360CB5025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26F4-078F-4D59-B472-FA6EC69F7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AD5D-BBE4-4ACE-9ECF-C15EB7246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7421-0BDC-442B-AF88-D038BBB9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7851-1D46-4740-A401-DC454597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F983-CE53-4634-B57A-94B2ECCF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7B191-1A26-455B-8B7F-A252A102F30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05497-BFC3-46C5-812B-448B95D14BD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gif"/><Relationship Id="rId5" Type="http://schemas.openxmlformats.org/officeDocument/2006/relationships/image" Target="../media/image19.gif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wmf"/><Relationship Id="rId3" Type="http://schemas.openxmlformats.org/officeDocument/2006/relationships/image" Target="../media/image22.gif"/><Relationship Id="rId4" Type="http://schemas.openxmlformats.org/officeDocument/2006/relationships/image" Target="../media/image23.gif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image" Target="../media/image14.gif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Dear Juno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Vocabulary 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 Amazing Words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Grade Read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Verdana"/>
              </a:rPr>
              <a:t>transport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10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o carry something somewhere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495680" y="4267080"/>
            <a:ext cx="2210040" cy="18637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762120" y="3733920"/>
            <a:ext cx="1390680" cy="1834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2743200" y="3886200"/>
            <a:ext cx="1371600" cy="13334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6705720" y="2286000"/>
            <a:ext cx="2009520" cy="2286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Verdana"/>
              </a:rPr>
              <a:t>cove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10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 small part of a sea or lake partly surrounded by land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514600" y="3255840"/>
            <a:ext cx="4267080" cy="244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Verdana"/>
              </a:rPr>
              <a:t>footprint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10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he mark your foot makes when you step on something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52280" y="3657600"/>
            <a:ext cx="1854360" cy="18032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3048120" y="4038480"/>
            <a:ext cx="3562200" cy="76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6934320" y="3886200"/>
            <a:ext cx="1676160" cy="2278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2286000" y="4495680"/>
            <a:ext cx="1266840" cy="1905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898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98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Verdana"/>
              </a:rPr>
              <a:t>deaf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10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o not be able to hear well or at all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990720" y="3657600"/>
            <a:ext cx="1817640" cy="1824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3664080" y="2786040"/>
            <a:ext cx="3803400" cy="2695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768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6" dur="768" fill="hold"/>
                                        <p:tgtEl>
                                          <p:spTgt spid="1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8" dur="768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0" dur="768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Verdana"/>
              </a:rPr>
              <a:t>imitate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0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o try to act like or to be like the person or thing.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276720" y="3276720"/>
            <a:ext cx="2209680" cy="2647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74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Verdana"/>
              </a:rPr>
              <a:t>sign language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10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 way of talking by making signs with your hands to communicate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838080" y="3886200"/>
            <a:ext cx="1590840" cy="18273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2895480" y="4267080"/>
            <a:ext cx="2003400" cy="1467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5791320" y="3657600"/>
            <a:ext cx="1463400" cy="18050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Verdana"/>
              </a:rPr>
              <a:t>Vocabulary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Verdana"/>
              </a:rPr>
              <a:t>envelope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Verdana"/>
              </a:rPr>
              <a:t>persimmons 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Verdana"/>
              </a:rPr>
              <a:t>photograph 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Verdana"/>
              </a:rPr>
              <a:t>smudged 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Verdana"/>
              </a:rPr>
              <a:t>envelope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0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 folded paper cover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200400" y="3809880"/>
            <a:ext cx="1635120" cy="15782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533520" y="28954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6477120" y="2133720"/>
            <a:ext cx="2057400" cy="18349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6553080" y="4181400"/>
            <a:ext cx="2743200" cy="13525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4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Verdana"/>
              </a:rPr>
              <a:t>persimmons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0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ound, yellow, and orange fruit about the size of a plum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86000" y="3733920"/>
            <a:ext cx="4672080" cy="25286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6858000" y="3124080"/>
            <a:ext cx="1803240" cy="144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75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98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Verdana"/>
              </a:rPr>
              <a:t>photograph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0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 picture you make with a camera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438280" y="3276720"/>
            <a:ext cx="4038840" cy="2692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89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98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Verdana"/>
              </a:rPr>
              <a:t>smudged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0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arked with a dirty streak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124080" y="2590920"/>
            <a:ext cx="2425680" cy="31240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Verdana"/>
              </a:rPr>
              <a:t>Amazing Words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1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Verdana"/>
              </a:rPr>
              <a:t>correspond</a:t>
            </a: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1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Verdana"/>
              </a:rPr>
              <a:t>postage</a:t>
            </a: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1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Verdana"/>
              </a:rPr>
              <a:t>transport</a:t>
            </a: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1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Verdana"/>
              </a:rPr>
              <a:t>cove</a:t>
            </a: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1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Verdana"/>
              </a:rPr>
              <a:t>footprint</a:t>
            </a: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1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Verdana"/>
              </a:rPr>
              <a:t>deaf</a:t>
            </a: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1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Verdana"/>
              </a:rPr>
              <a:t>imitate</a:t>
            </a: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1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Verdana"/>
              </a:rPr>
              <a:t>sign language</a:t>
            </a: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Verdana"/>
              </a:rPr>
              <a:t>correspond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0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o communicate with another person (e.g. letters, text message, email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Letter"/>
          <p:cNvSpPr/>
          <p:nvPr/>
        </p:nvSpPr>
        <p:spPr>
          <a:xfrm>
            <a:off x="3276720" y="3657600"/>
            <a:ext cx="2266920" cy="11336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80880" y="4343400"/>
            <a:ext cx="1841760" cy="1305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6629400" y="3581280"/>
            <a:ext cx="1908000" cy="1959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3733920" y="4952880"/>
            <a:ext cx="1841400" cy="163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Verdana"/>
              </a:rPr>
              <a:t>postage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he money you pay to send a letter or something you want to mail.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09480" y="4038480"/>
            <a:ext cx="2092320" cy="17845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6629400" y="3581280"/>
            <a:ext cx="1822320" cy="20574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3276720" y="3733920"/>
            <a:ext cx="2514600" cy="20113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22:42:05Z</dcterms:created>
  <dc:creator>Secretary</dc:creator>
  <dc:description/>
  <dc:language>en-US</dc:language>
  <cp:lastModifiedBy>dyera</cp:lastModifiedBy>
  <dcterms:modified xsi:type="dcterms:W3CDTF">2007-11-12T19:09:32Z</dcterms:modified>
  <cp:revision>4</cp:revision>
  <dc:subject/>
  <dc:title>Dear Juno Vocabulary and  Amazing Words</dc:title>
</cp:coreProperties>
</file>